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C3A6-9460-4A29-9F0F-DCCC91280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A74D-6AF6-4D35-98E1-9CE98226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6D1C-E30A-4462-9F7A-18B37DCA8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062A-B4A5-4DDE-B307-7972A2634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B934-F08A-4F26-9417-5DC8A6D1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4EF5-3881-43DA-805C-8A506F565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35FC-A4A4-407A-8D84-DFD131F8D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06EA-532E-4457-AFCB-BA5FB1E4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921-2972-4913-9141-DD7CB307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380-AF79-4BBC-82EF-B0BA6854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015-300C-4C79-A3C2-594606C5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BDF-B601-4963-BD29-FF933972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0428-60FD-4AF7-8C5C-B78F3A86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BDCB-4F00-419C-AEE5-49C8CE53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E295-DED2-4E49-B00E-7F99FEF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B89B-C608-416C-9EEE-685222CA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E742-0703-407A-8859-B38AC23A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10A5-6E83-48AC-BB42-BDCCA30C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F366-E864-4606-B9CE-991F68F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771-6E42-4F08-90DE-14FEDC13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AC58-99ED-450D-B223-4808E4F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FCFC-E085-44EF-9127-22AB152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6DAD-A90F-439D-8C28-2E067F3A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9BCA-B9C1-4FD8-AA1B-8FA9401C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0D0B-944E-4364-9A37-8AC0D53C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3A0-0C53-4373-882A-60C66B21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F16-8955-4904-8F6C-C01644A8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D69-9913-4C86-9F28-295B5313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9BA-BFB6-4104-95D5-38A99E36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10F-9624-47A0-B3C5-4B0E932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73A-72D3-4D75-B22B-4D10E28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47A-56F3-42EB-A290-DB605D9D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74AA-B9FE-493F-A278-61634F6DF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F213-9E6F-4FEA-BC31-79001867BD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he Structure of Hydrospher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3: 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Structure of Hydrosphe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s—96.5% of water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 water—3.5% of water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 water distrib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e:  1.76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ndwater:  1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face Fresh Water:  0.0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mosphere and soil:  0.00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Understanding Where Your Water Is Located—Oceans and I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bodies of water hold the largest amount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s—the largest bodies of water on Earth (contain salt water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eatures house water as 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s:  a large piece of freshwater ice floating in open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ciers:  any large mass of ice that moves slowly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ermanent snow areas also “house” water as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resh Water Locations—Surface Wa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watershed and a river ba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terms describe land that drains into a river, stream or 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Basin:  the term used to describe an area that drains into a large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hed:  the term used to describe an area that drains into a smaller river or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resh Water Locations—River Basins and Watershe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river basins are made up of many interconnected watersh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Cape Fear and Neuse River Basins are made of many small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ter in a watershed runs to the lowest point—a river, stream, lake, or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resh Water Locations—Rivers, Streams, and Lak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channel along which water is continually flowing down a slope—made of many streams that com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tr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channel along which water is continually flowing down a slope—made of small gu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l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dy of water of considerable size contained on a body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resh Water Locations--Groundwa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ground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found in cracks and pores in sand, gravel and rocks below the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qui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rous rock layer underground that is a reservoir f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ther Surface Wa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wet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where the water table is at, near or above the land surface long enough during the year to support adapted plant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ypes of wetl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mps, bogs, and mar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mp:  a wetland dominated by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gs:  a wetland dominated by peat m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es:  a wetland dominated by gr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0:21:52Z</dcterms:created>
  <dc:creator>jcameron</dc:creator>
  <dc:description/>
  <dc:language>en-US</dc:language>
  <cp:lastModifiedBy>jcameron</cp:lastModifiedBy>
  <dcterms:modified xsi:type="dcterms:W3CDTF">2013-05-01T17:16:40Z</dcterms:modified>
  <cp:revision>4</cp:revision>
  <dc:subject/>
  <dc:title>The Structure of Hydrosphere</dc:title>
</cp:coreProperties>
</file>